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9E2-C89F-43F4-926B-91AE4126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4C4-F8E8-4179-BB3F-D040E3D1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CA7-0A77-41CA-B4FD-59680BDB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6BE-8AE5-4DE1-A37D-8AEED82F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CD7E-7EEC-4559-B3DE-5D1FE1C4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81F3-04CF-4FD9-B568-8EF51B5B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4223-7704-4649-9F53-7E00E268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F48A-7D15-49CC-8BDA-6B0B8882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182A-2BC8-43F1-BFC1-364C5BD9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BA4D-C783-4930-854E-DB684307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D087-0B2B-4EE9-8005-DEAC0EF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9B5-43E2-4543-A450-23728EFD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79E5-8FC8-48CE-B064-A5819981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D0F9-E34B-4FD7-A13A-E01C552A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E880-E5C8-405F-9E67-967ED876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E21F-891B-4982-A329-CBEBD723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7985-2029-4A8F-9A4C-BB7D8D85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325-95DF-4A2E-AC02-BC38CA3B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627-BD87-4F9C-B3B5-B5ADA0CB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AC9-5D38-48FD-BB67-07F7BEF4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703-B1D2-49DC-A3F8-1611B1B2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4B3-9748-44F3-95B7-06B0AB37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3B2-BD0A-4CFE-B7C2-549169A9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176-BC88-4C04-BE59-D5BD5475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08E2D-B9D2-4B0C-AD99-4AE820842049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3AB6D-FA45-406C-97BB-BE6393D4673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B8E22-762A-44C8-9A3A-379850857515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DBF1D-E20F-4A75-A2A5-AF8ECD1AA48E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 through sk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962160" cy="5410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67080" y="685800"/>
            <a:ext cx="4622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nelid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549360" y="1752480"/>
            <a:ext cx="7756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ilater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utic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ngitudinal &amp; circular musc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mall anterior brain with ventral nerve cor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most species are hermaphrodites with                 internal fertiliz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lete digestive tract with specialized regions (mouth, pharynx, etc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osed system with dorsal heart &amp; blood vesse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ephridia (2/segment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4:16:23Z</dcterms:modified>
  <cp:revision>7</cp:revision>
  <dc:subject/>
  <dc:title>Animal Phyla Chart</dc:title>
</cp:coreProperties>
</file>